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710-F204-4D15-8946-633AD726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330-3F28-41BF-BD8C-02E258C6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AD9-E58F-4DEB-A622-C38F792A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D2B-CCCB-4055-B03F-3370D52C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896-3FEB-4203-9B63-FA9BAB88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236-5992-4ADA-AFB6-03DA675F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4ED-02F1-45FF-AB98-B54628A4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ECD-479B-4314-9050-5658AA2E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683-31A8-47C9-A28B-1B9FC6FF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295-7FD9-4C67-9EB6-0412B705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C53-4FDC-408A-8C88-66678725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068-7F04-4DB9-872A-79D7C9BA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8F16-2646-45E0-BDA0-8F004F9D6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pter expl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 of threads and multith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reate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initiate and kill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t states of a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read sta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– actually running, executing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able – waiting for a currently running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ed – cannot proceed until something happens – maybe it called sleep – and is suspended for some period of milli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 – run has ended norm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thread can find out the states of another th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alling ‘isAlive’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ball1.isAlive( 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.setText (“ ball 1 is alive “) 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, thread priorities and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can share single or multiprocessors among threads. If several threads are runnable the scheduler must choose between them – programmer must be aware – not to assume when a particular thread will be se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ault – all threads given equal prio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thread is taking a lot of time it may ‘yield’   yield(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hreads given some processor time – if there are no other threads the ‘hog’ gets more processo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rogram needs to do lots of things simultaneously you may create a thread to do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or Java programs to have two or more threads – each behaves like a normal sequential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eduler stores processing time among all the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is used to set a new thread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read class must be declared (‘extends Thread’) and ‘run’ method must be invo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read dies when it exits it’s ru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reads can be avoided – an alternative is to use the ‘Timer’ class which delivers events at preset intervals (move and redraw images for an example) instead of sleep method to suspend threa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using threads pref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tions – some real, some involving compu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eople shop for a m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buys m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buys b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ur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group: an orch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different parts synchro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uter controlling an industrial plat concur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C does several things: print, edit a file, display a different file, receive email – giving the impression it is working all at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multithreads – seemingly all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gra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s, does sequences, selections (ifs), follows a path. In multithreading two or more paths may be taken – apparently all execute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a fi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a web pa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an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asks to be done concurrently. Buttons work while a time consuming task is execu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s: A bouncing balls progra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ets of buttons ( go – and stop) for each of two balls (pages 404-407) Each runs on a separate th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read is the GUI, one thread draws each of the two balls. The first creates the other two. The three threads share the proces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.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n milliseconds (1000 mS = 1 second) slows down the animation – so we can see it work (both balls bounc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a thread: ball1.start(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must al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he library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method run, called to set thread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 d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stop a thread (a ball in the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keepGoing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body of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l continues to bounce while boolean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(event.getSource( ) = = stop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1.pleaseStop( );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void pleaseStop (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Going = false; 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ball1 will stop when the stop button is cli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hread waits until another has died – done with ‘joi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2.join(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1 waits until ball2 has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of a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’ – just created with ‘new’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unnable yet will be by means of ‘start’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2:30:04Z</dcterms:created>
  <dc:creator> </dc:creator>
  <dc:description/>
  <dc:language>en-US</dc:language>
  <cp:lastModifiedBy> </cp:lastModifiedBy>
  <dcterms:modified xsi:type="dcterms:W3CDTF">2005-05-12T02:30:36Z</dcterms:modified>
  <cp:revision>1</cp:revision>
  <dc:subject/>
  <dc:title>Threads Chapter 22</dc:title>
</cp:coreProperties>
</file>